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C764-D1A4-40CF-83E0-53B6CE3E9F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54CB-43D5-4103-8C3F-2117600A3B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4337-7A40-4017-97C1-1404109EB0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A10D-75DB-4DB1-9149-14F3D0C5D1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E47A-C622-45D0-A7E0-7D1F0F3291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53E2-3FCD-48C1-8DF8-882F115AB6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D520-4109-4C90-811E-49B2BC2E53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11F6-4191-4C62-8DE5-38E8945B3A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178F-366E-42DB-BFC0-99217002A7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2B96-375D-451D-991B-01148FFCCD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592E-253A-48C4-860E-C9A067694D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7C15-93AF-4EBA-A617-E9830FAB1C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FC10-B650-4EDE-9872-8915458753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2364-07AF-4F4F-BEF2-2FC6DA9126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3780-C5D0-46FD-A642-99DCC1579B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627E-A0F4-454A-914C-238DAC5BBE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CE0A-BAC8-46E3-A52B-B2BE56B40B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F88F-45D3-4695-B74D-CCCBBEAEF6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FB24-48B8-4353-A6C7-4890A6E571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7AFF-F043-48CC-A9B5-9A7A13E0CB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02D-2285-41A7-8363-47C9EB3E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43F-019D-483F-9487-BC249484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469-82EA-4486-8497-DBECAB59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A69-083B-4E4E-958D-9FBA3A7E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4B3-71F0-4555-AA2D-DA370193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93AF-C81F-41C1-9483-581E53A9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2975-D5C5-4CDF-BD36-613AAB43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E31-F327-4227-9283-2262AF69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6EB-4926-4775-AFB8-2AFB53AF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F5E-E4CF-4868-82FE-F93E0D21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90D-D6B3-4F60-BEE9-5A2CC148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ADD-4CDA-412C-9ABC-18CF6667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61E2-BA93-4416-AD43-E6A31409E3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ulating cohorts with Markov model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05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 Guzman Cast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MCj04316010000[1]"/>
          <p:cNvPicPr/>
          <p:nvPr/>
        </p:nvPicPr>
        <p:blipFill>
          <a:blip r:embed="rId2"/>
          <a:stretch/>
        </p:blipFill>
        <p:spPr>
          <a:xfrm>
            <a:off x="435600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MCj04316010000[1]"/>
          <p:cNvPicPr/>
          <p:nvPr/>
        </p:nvPicPr>
        <p:blipFill>
          <a:blip r:embed="rId3"/>
          <a:stretch/>
        </p:blipFill>
        <p:spPr>
          <a:xfrm>
            <a:off x="608472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MCj04316140000[1]"/>
          <p:cNvPicPr/>
          <p:nvPr/>
        </p:nvPicPr>
        <p:blipFill>
          <a:blip r:embed="rId8"/>
          <a:stretch/>
        </p:blipFill>
        <p:spPr>
          <a:xfrm>
            <a:off x="579600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MCj04316140000[1]"/>
          <p:cNvPicPr/>
          <p:nvPr/>
        </p:nvPicPr>
        <p:blipFill>
          <a:blip r:embed="rId11"/>
          <a:stretch/>
        </p:blipFill>
        <p:spPr>
          <a:xfrm>
            <a:off x="4859280" y="566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5.92593E-006 C -0.04062 0.04468 -0.08124 0.08936 -0.10225 0.147 C -0.12326 0.20464 -0.12465 0.27547 -0.12604 0.34653 E">
                                      <p:cBhvr>
                                        <p:cTn id="5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C -0.04271 0.13819 -0.08542 0.27616 -0.03941 0.39884 C 0.0066 0.5213 0.14097 0.62801 0.27552 0.73495 E">
                                      <p:cBhvr>
                                        <p:cTn id="6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93280" y="2224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1042920" y="1844280"/>
            <a:ext cx="2890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904920" y="12891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4572000" y="1628640"/>
            <a:ext cx="7128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2269440" y="602136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 flipV="1">
            <a:off x="2719440" y="5661000"/>
            <a:ext cx="1131840" cy="34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3892680" y="4698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d= Asymptomatic * P(a,m) + Mild * (1-P(m,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6443640" y="1052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643560" y="1484280"/>
            <a:ext cx="172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802480" y="3933720"/>
            <a:ext cx="170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978480" y="3357720"/>
            <a:ext cx="164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ling the effect of an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7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8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51280" y="-36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better capture th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3643560" y="1582560"/>
            <a:ext cx="1032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738040" y="4032360"/>
            <a:ext cx="1025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978120" y="3456000"/>
            <a:ext cx="990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5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9"/>
          <p:cNvSpPr/>
          <p:nvPr/>
        </p:nvSpPr>
        <p:spPr>
          <a:xfrm>
            <a:off x="154764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n Rel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1908000" y="2349360"/>
            <a:ext cx="14292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 flipH="1">
            <a:off x="2700360" y="2997360"/>
            <a:ext cx="295128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2"/>
          <p:cNvSpPr/>
          <p:nvPr/>
        </p:nvSpPr>
        <p:spPr>
          <a:xfrm flipH="1">
            <a:off x="2843280" y="4437000"/>
            <a:ext cx="4392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92000" y="-2736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deal with competitive causes of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omprehensive CH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"/>
          <p:cNvSpPr/>
          <p:nvPr/>
        </p:nvSpPr>
        <p:spPr>
          <a:xfrm>
            <a:off x="2532240" y="4405320"/>
            <a:ext cx="1596960" cy="88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"/>
          <p:cNvSpPr/>
          <p:nvPr/>
        </p:nvSpPr>
        <p:spPr>
          <a:xfrm>
            <a:off x="6431040" y="210672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on-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262260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3332160" y="4494240"/>
            <a:ext cx="70812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4836960" y="2195640"/>
            <a:ext cx="7099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Chro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8"/>
          <p:cNvSpPr/>
          <p:nvPr/>
        </p:nvSpPr>
        <p:spPr>
          <a:xfrm>
            <a:off x="439416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Po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/U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5278320" y="334332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Hea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Fail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6431040" y="422928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2444760" y="2104920"/>
            <a:ext cx="1595520" cy="88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2535120" y="2195640"/>
            <a:ext cx="7081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nstab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"/>
          <p:cNvSpPr/>
          <p:nvPr/>
        </p:nvSpPr>
        <p:spPr>
          <a:xfrm>
            <a:off x="3243240" y="219564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A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14"/>
          <p:cNvCxnSpPr>
            <a:stCxn id="214" idx="6"/>
            <a:endCxn id="219" idx="2"/>
          </p:cNvCxnSpPr>
          <p:nvPr/>
        </p:nvCxnSpPr>
        <p:spPr>
          <a:xfrm>
            <a:off x="4129200" y="4847760"/>
            <a:ext cx="265680" cy="2520"/>
          </a:xfrm>
          <a:prstGeom prst="curvedConnector5">
            <a:avLst>
              <a:gd name="adj1" fmla="val 49253"/>
              <a:gd name="adj2" fmla="val 50000"/>
              <a:gd name="adj3" fmla="val 4925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Freeform 15"/>
          <p:cNvSpPr/>
          <p:nvPr/>
        </p:nvSpPr>
        <p:spPr>
          <a:xfrm>
            <a:off x="2976480" y="5289480"/>
            <a:ext cx="708120" cy="443160"/>
          </a:xfrm>
          <a:custGeom>
            <a:avLst/>
            <a:gdLst>
              <a:gd name="textAreaLeft" fmla="*/ 0 w 708120"/>
              <a:gd name="textAreaRight" fmla="*/ 708480 w 7081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4570560" y="511344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7"/>
          <p:cNvSpPr/>
          <p:nvPr/>
        </p:nvSpPr>
        <p:spPr>
          <a:xfrm rot="11782200">
            <a:off x="5544720" y="299052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8"/>
          <p:cNvSpPr/>
          <p:nvPr/>
        </p:nvSpPr>
        <p:spPr>
          <a:xfrm rot="11782200">
            <a:off x="5103360" y="1840680"/>
            <a:ext cx="443160" cy="443160"/>
          </a:xfrm>
          <a:custGeom>
            <a:avLst/>
            <a:gdLst>
              <a:gd name="textAreaLeft" fmla="*/ 0 w 443160"/>
              <a:gd name="textAreaRight" fmla="*/ 443520 w 4431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9"/>
          <p:cNvSpPr/>
          <p:nvPr/>
        </p:nvSpPr>
        <p:spPr>
          <a:xfrm rot="10800000">
            <a:off x="2887200" y="1752120"/>
            <a:ext cx="709560" cy="443160"/>
          </a:xfrm>
          <a:custGeom>
            <a:avLst/>
            <a:gdLst>
              <a:gd name="textAreaLeft" fmla="*/ 0 w 709560"/>
              <a:gd name="textAreaRight" fmla="*/ 709920 w 7095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6078600" y="4670280"/>
            <a:ext cx="264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"/>
          <p:cNvSpPr/>
          <p:nvPr/>
        </p:nvSpPr>
        <p:spPr>
          <a:xfrm flipV="1">
            <a:off x="6078600" y="2460600"/>
            <a:ext cx="2649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2"/>
          <p:cNvSpPr/>
          <p:nvPr/>
        </p:nvSpPr>
        <p:spPr>
          <a:xfrm>
            <a:off x="2887560" y="3166920"/>
            <a:ext cx="0" cy="106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3684600" y="3078000"/>
            <a:ext cx="797040" cy="1416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4"/>
          <p:cNvSpPr/>
          <p:nvPr/>
        </p:nvSpPr>
        <p:spPr>
          <a:xfrm flipH="1">
            <a:off x="4129200" y="2549520"/>
            <a:ext cx="442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 flipV="1">
            <a:off x="3951360" y="3697200"/>
            <a:ext cx="1152360" cy="620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V="1">
            <a:off x="5191200" y="4140360"/>
            <a:ext cx="264960" cy="442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>
            <a:off x="4038480" y="2901960"/>
            <a:ext cx="1065240" cy="708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281560" y="2990880"/>
            <a:ext cx="87480" cy="266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6078600" y="2371680"/>
            <a:ext cx="0" cy="23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3419280" y="2901960"/>
            <a:ext cx="1417320" cy="132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1"/>
          <p:cNvSpPr/>
          <p:nvPr/>
        </p:nvSpPr>
        <p:spPr>
          <a:xfrm rot="10800000">
            <a:off x="1447560" y="1676160"/>
            <a:ext cx="609480" cy="426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>
            <a:off x="2286000" y="35812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76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you calculate transition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611280" y="184464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hor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ression analysis (survival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ftware (DISM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P can vary by sex, age, SES and calenda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ke sure your TP reflect the time scale you are us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t’s build a simple CHD markov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ant to reflect the basic epidemiology of CH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k factors acting on the healthy population generates a number of CHD inciden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resents as “Clinical CH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ome, the first manifestation is De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rognosis change substantially when you develop overt C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incidence of CHD (e.g.: smoking 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case fatality (e.g. secondary prevention of CH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G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ition probabilities are not related to age and s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clinical forms of CHD have the same pro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me later about the Markov Assumption, I have very bad mem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a mod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2120" y="2270160"/>
            <a:ext cx="14475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70200" y="2819520"/>
            <a:ext cx="16891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610320" y="3016080"/>
            <a:ext cx="18097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56272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80880" y="3565440"/>
            <a:ext cx="18288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9"/>
          <p:cNvCxnSpPr>
            <a:stCxn id="52" idx="3"/>
            <a:endCxn id="53" idx="1"/>
          </p:cNvCxnSpPr>
          <p:nvPr/>
        </p:nvCxnSpPr>
        <p:spPr>
          <a:xfrm>
            <a:off x="2209320" y="2468160"/>
            <a:ext cx="1461240" cy="702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AutoShape 10"/>
          <p:cNvCxnSpPr>
            <a:stCxn id="56" idx="3"/>
            <a:endCxn id="53" idx="1"/>
          </p:cNvCxnSpPr>
          <p:nvPr/>
        </p:nvCxnSpPr>
        <p:spPr>
          <a:xfrm flipV="1">
            <a:off x="2209320" y="3169440"/>
            <a:ext cx="1461240" cy="594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aracteristics of CHD epidem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onic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asymptomatic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er, but still considerable long clinical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between different disease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nic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MI/UA/Sudden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ronic Ang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n 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 differences between states in term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ociate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ffere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rden of disease/Prediction of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specific interventions/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versus preventa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population level/public health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rgeted interventions (‘High risk approach’) versus whole population leve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oices of Logic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ribution of effects on observed changes in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rete Event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hort Simulation using a Markov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low a cohort of people through pathways that reflect the natural history of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groups of the cohort move between discret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probabilities drive the proportion of people in each state that move to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tain states are spe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eached, no more transition from them are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: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mulation runs in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ransitions occur when we change to the next cy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4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1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2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MCj04316010000[1]"/>
          <p:cNvPicPr/>
          <p:nvPr/>
        </p:nvPicPr>
        <p:blipFill>
          <a:blip r:embed="rId5"/>
          <a:stretch/>
        </p:blipFill>
        <p:spPr>
          <a:xfrm>
            <a:off x="1908000" y="1125360"/>
            <a:ext cx="360360" cy="36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MCj04316140000[1]"/>
          <p:cNvPicPr/>
          <p:nvPr/>
        </p:nvPicPr>
        <p:blipFill>
          <a:blip r:embed="rId6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MCj04316140000[1]"/>
          <p:cNvPicPr/>
          <p:nvPr/>
        </p:nvPicPr>
        <p:blipFill>
          <a:blip r:embed="rId7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MCj04316140000[1]"/>
          <p:cNvPicPr/>
          <p:nvPr/>
        </p:nvPicPr>
        <p:blipFill>
          <a:blip r:embed="rId8"/>
          <a:stretch/>
        </p:blipFill>
        <p:spPr>
          <a:xfrm>
            <a:off x="1332000" y="1484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MCj04316140000[1]"/>
          <p:cNvPicPr/>
          <p:nvPr/>
        </p:nvPicPr>
        <p:blipFill>
          <a:blip r:embed="rId9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MCj04316140000[1]"/>
          <p:cNvPicPr/>
          <p:nvPr/>
        </p:nvPicPr>
        <p:blipFill>
          <a:blip r:embed="rId10"/>
          <a:stretch/>
        </p:blipFill>
        <p:spPr>
          <a:xfrm>
            <a:off x="2556000" y="1341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24277E-006 C 0.03073 0.15631 0.06163 0.31284 0.11024 0.40902 C 0.15885 0.50521 0.26111 0.54891 0.29132 0.57688 E">
                                      <p:cBhvr>
                                        <p:cTn id="1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MCj04316140000[1]"/>
          <p:cNvPicPr/>
          <p:nvPr/>
        </p:nvPicPr>
        <p:blipFill>
          <a:blip r:embed="rId8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MCj04316140000[1]"/>
          <p:cNvPicPr/>
          <p:nvPr/>
        </p:nvPicPr>
        <p:blipFill>
          <a:blip r:embed="rId11"/>
          <a:stretch/>
        </p:blipFill>
        <p:spPr>
          <a:xfrm>
            <a:off x="6443640" y="242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6.7052E-006 C 0.07083 -0.01502 0.14166 -0.02982 0.20468 6.7052E-006 C 0.2677 0.02983 0.34913 0.14868 0.37795 0.17827 E">
                                      <p:cBhvr>
                                        <p:cTn id="1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7052E-006 C 0.11875 0.09249 0.2375 0.18521 0.32274 0.23053 C 0.40799 0.27584 0.48021 0.26567 0.51163 0.27261 E">
                                      <p:cBhvr>
                                        <p:cTn id="2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948E-006 C 0.09705 0.16162 0.1941 0.32347 0.25191 0.43006 C 0.30972 0.53665 0.33073 0.60486 0.34653 0.63977 E">
                                      <p:cBhvr>
                                        <p:cTn id="2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2.08092E-006 C -0.00469 0.14936 -0.00921 0.29896 -0.03941 0.37757 C -0.06962 0.45618 -0.12535 0.46404 -0.18108 0.4719 E">
                                      <p:cBhvr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3 -0.0104 C 0.0691 -0.0104 0.09983 0.0259 0.09983 0.07098 C 0.09983 0.11584 0.0691 0.15237 0.03143 0.15237 C -0.00642 0.15237 -0.03698 0.11584 -0.03698 0.07098 C -0.03698 0.0259 -0.00642 -0.0104 0.03143 -0.0104 Z">
                                      <p:cBhvr>
                                        <p:cTn id="3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32 -2.25434E-006 C -0.02934 -2.25434E-006 -0.01962 0.02197 -0.01962 0.04971 C -0.01962 0.077 -0.02934 0.09966 -0.04132 0.09966 C -0.0533 0.09966 -0.06284 0.077 -0.06284 0.04971 C -0.06284 0.02197 -0.0533 -2.25434E-006 -0.04132 -2.25434E-006 Z">
                                      <p:cBhvr>
                                        <p:cTn id="3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4 0.0104 C -0.06546 0.0104 -0.04827 0.03491 -0.04827 0.06543 C -0.04827 0.09572 -0.06546 0.12069 -0.08664 0.12069 C -0.10764 0.12069 -0.12466 0.09572 -0.12466 0.06543 C -0.12466 0.03491 -0.10764 0.0104 -0.08664 0.0104 Z">
                                      <p:cBhvr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104 C 0.06493 -0.0104 0.09219 0.02359 0.09219 0.06567 C 0.09219 0.10752 0.06493 0.14174 0.0316 0.14174 C -0.00173 0.14174 -0.02882 0.10752 -0.02882 0.06567 C -0.02882 0.02359 -0.00173 -0.0104 0.0316 -0.0104 Z">
                                      <p:cBhvr>
                                        <p:cTn id="4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0.01041 C 0.10208 0.01041 0.1276 0.04671 0.1276 0.09156 C 0.1276 0.13642 0.10208 0.17295 0.071 0.17295 C 0.03993 0.17295 0.01458 0.13642 0.01458 0.09156 C 0.01458 0.04671 0.03993 0.01041 0.071 0.01041 Z">
                                      <p:cBhvr>
                                        <p:cTn id="4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104 C 0.10191 0.02104 0.12743 0.0504 0.12743 0.0867 C 0.12743 0.12277 0.10191 0.15237 0.07084 0.15237 C 0.03976 0.15237 0.01441 0.12277 0.01441 0.0867 C 0.01441 0.0504 0.03976 0.02104 0.07084 0.02104 Z">
                                      <p:cBhvr>
                                        <p:cTn id="4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4:25:44Z</dcterms:created>
  <dc:creator>Martin O'Flaherty</dc:creator>
  <dc:description/>
  <dc:language>en-US</dc:language>
  <cp:lastModifiedBy>Guzman Castillo, Maria</cp:lastModifiedBy>
  <dcterms:modified xsi:type="dcterms:W3CDTF">2014-09-16T17:12:36Z</dcterms:modified>
  <cp:revision>7</cp:revision>
  <dc:subject/>
  <dc:title>Simulating cohorts with Markov models.</dc:title>
</cp:coreProperties>
</file>